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146304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C89AB3-8E0B-45A9-80A0-120D681A6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Num" idx="7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FD5F9-D80F-4772-B2A5-6BC94918DC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C0917-A493-4C81-892D-CC2D546B13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Num" idx="15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E1CF2-280F-4F7E-9126-1623D723E3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3BDD3-6DCB-4CB5-90AF-D89854A34E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Num" idx="16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FC04F-3B04-49CB-8AB8-60FB4AC9D0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E867A-9BD1-4F40-9FD3-C08CB9B24B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Num" idx="17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30973-C34A-4569-8264-40D6BDECE6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AD997-2539-40D5-B1D4-9C0BB74D48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Num" idx="18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2FD24-207E-4351-80BA-09136882F4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4C3AA-7827-423E-A5A1-64692F2C7B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Num" idx="19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CF527-4EDF-42DF-962C-9E6A57C30C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A57BC-709C-4DE7-BD3E-B67A61303D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Num" idx="20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BA04B-BC29-4C43-876A-BB465CD063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BECA9-34E6-43F3-B6FC-292744384A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Num" idx="21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03E2D-687D-4BA4-8D9B-C3EAC155AA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BC68B-E846-4198-BE8B-05EBA393D1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Num" idx="8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E4614-00F4-4F86-A292-E5059C3008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07168-63B5-451F-AFB9-8EAC1D6CD0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9614A-6ACF-4697-A1DA-34FE042C9B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D6D6E-706F-478D-9EE3-990D7F583A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Num" idx="10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130A8-48CB-4686-9F74-69FEB4FD1F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5BA1E-9C60-41C4-B7D1-80164C3F49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11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AC19C-7D9B-40E6-8E5C-ACAE3E4E8F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0E29A-C174-44ED-B996-0BBD02E050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Num" idx="12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A6A05-B661-428A-B102-242D6B7099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50057-D800-48AC-8E23-DCD11711EA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Num" idx="13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580D0-7CD2-4CB4-8E69-175B93DEAA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3C13B-FF28-4C13-9351-330FBE8756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Num" idx="14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F0ECB-6A47-4794-B574-DC085514C9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D9E2D-7A3A-4B19-A4E6-4654D8771E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180C-9740-446F-9B73-519E9CBE3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96920" y="633240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B60C-BBDE-41AC-B07E-49B267820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46136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D032-9EFB-40F9-8883-DF4EC6AE7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9668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9608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9692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29668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49608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D773-BC69-460B-8E6D-2672CD218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2B67-8824-49BD-B91C-F869651C72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893D-4A87-45FB-BC12-AB50303DD1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D6845-62DC-466D-A840-3C585E9CD6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EA40-D9F3-4609-B92F-F2DCD03647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D9FC-A50A-468A-88D9-96A8C35C02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45040" y="-193680"/>
            <a:ext cx="10469160" cy="87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935D-2254-431B-94BE-A145838B7A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B9F7-CD3B-4B30-8CA4-C976777E4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B1B0-E705-4E5F-942E-CB5214F31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6136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3308-4D74-42F5-A29D-DFADDD2398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DBD4-4C90-4D6C-8E33-A7A8EEDCB6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96920" y="633240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F7F2-AE07-48E7-82A3-9F02E8A7EA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136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608C-A38B-4678-BBFD-32ADBDD58D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9668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49608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9692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29668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949608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E12A-CB04-4FB2-A374-1C99F55264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F2E-9C65-4C01-ACF5-1D37074336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5B4-A5E2-47E5-B01C-C0E18E7347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275-5164-4FCB-B3D8-ED5D9945F6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6C7-39A4-4A1C-8258-524A63C614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540-23C5-490A-9CA3-1C5F3131B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B99B-90E8-438C-8134-F1CDC82D0E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45040" y="-193680"/>
            <a:ext cx="10469160" cy="87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2D1-DAEE-4E1A-BDD6-DBB3656DDE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00D-94D9-4BCE-A51B-B547E0168B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6136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72C-FFE9-44EB-A934-A4088FD41E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DCD-1B9E-43C3-A6A3-DF95C424E1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096920" y="633240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D2B-1F35-4512-BC41-904DF3B8DF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6136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AE5-61E0-4733-B312-A0F0CC6CAF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9668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49608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09692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529668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949608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B3E-B4BC-4BB4-B400-CAEDF969E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9A68-A70C-4011-BF11-65B0DD409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D3B8-67AE-4AD6-ADDF-A5DA8B6B8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45040" y="-193680"/>
            <a:ext cx="10469160" cy="87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A87A-ED0B-46A6-B1F1-9D71D3D64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C990-7A24-416F-9255-BB41759C0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6136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AC90-A657-47AE-8F05-3B0667D17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FD06-C480-4C70-8945-461E3718E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4630040" cy="9143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4"/>
          <p:cNvSpPr/>
          <p:nvPr/>
        </p:nvSpPr>
        <p:spPr>
          <a:xfrm>
            <a:off x="1096920" y="8331120"/>
            <a:ext cx="3047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997520" y="8331120"/>
            <a:ext cx="4633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10483920" y="8331120"/>
            <a:ext cx="3031920" cy="5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A19F8-A1FA-48C8-8747-DA8513E3BE6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31520" y="364680"/>
            <a:ext cx="1316700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731520" y="2139480"/>
            <a:ext cx="1316700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7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7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4630040" cy="9143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096920" y="8331120"/>
            <a:ext cx="3047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997520" y="8331120"/>
            <a:ext cx="4633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itle style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96920" y="2641680"/>
            <a:ext cx="613368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ird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marL="16002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urth level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fth level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7383600" y="2641680"/>
            <a:ext cx="613368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ird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marL="16002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urth level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fth level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2"/>
          </p:nvPr>
        </p:nvSpPr>
        <p:spPr>
          <a:xfrm>
            <a:off x="10483920" y="8331120"/>
            <a:ext cx="3031920" cy="5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6878D-5088-45D3-9BC7-CFAB4C9772C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4630040" cy="9143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096920" y="8331120"/>
            <a:ext cx="3047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997520" y="8331120"/>
            <a:ext cx="4633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itle style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AU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</a:tabLst>
            </a:pPr>
            <a:r>
              <a:rPr b="0" lang="en-AU" sz="3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GB" sz="37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ird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16002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urth level</a:t>
            </a:r>
            <a:endParaRPr b="0" lang="en-GB" sz="27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fth level</a:t>
            </a:r>
            <a:endParaRPr b="0" lang="en-GB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10483920" y="8331120"/>
            <a:ext cx="3031920" cy="5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7BAC7-7304-4D8C-A415-43E9B3A43FBE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6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6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6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096920" y="2840040"/>
            <a:ext cx="12436200" cy="19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rst they have to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it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ting Government Data Discovered and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783520" y="6502320"/>
            <a:ext cx="45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d from: John S. Erickso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therless World Const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sselaer Polytechnic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oy, New York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itter: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olyerickson   #TWCR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368280" y="6843600"/>
            <a:ext cx="1947600" cy="1947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4776840" y="387360"/>
            <a:ext cx="934380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Panel: The Art &amp; Science of Data Visualization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063000" y="4800600"/>
            <a:ext cx="447012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5523C-708F-4B20-A489-3711C11893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197920" y="2011320"/>
            <a:ext cx="6067080" cy="79563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cipates W3C DCAT RDF vocabulary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s what a comprehensiv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ted catal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DCAT and aggregation AP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ght look like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565440" y="-193680"/>
            <a:ext cx="1106460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Open Government Dataset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65160" y="2214720"/>
            <a:ext cx="8097480" cy="614628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6DBED-9CAB-41EF-A257-7DC73BF003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93880" y="2125800"/>
            <a:ext cx="12925080" cy="1922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GDS is a multi-year effort based on downloading, scraping or accessing APIs, converting metadata to a proto-DCAT model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publishing via endpoint and download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565440" y="-193680"/>
            <a:ext cx="1106460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Open Government Dataset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2468520" y="4479840"/>
            <a:ext cx="1006200" cy="45684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2308320" y="5303880"/>
            <a:ext cx="1463400" cy="45684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2286000" y="6218280"/>
            <a:ext cx="1234800" cy="100620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401920" y="6354720"/>
            <a:ext cx="1234800" cy="100620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2514600" y="6492960"/>
            <a:ext cx="1234800" cy="100620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4132440" y="4435560"/>
            <a:ext cx="6536880" cy="315396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  <a:effectLst>
            <a:outerShdw algn="ctr" blurRad="6336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GDS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5888160" y="5578560"/>
            <a:ext cx="1234800" cy="1006200"/>
          </a:xfrm>
          <a:prstGeom prst="rect">
            <a:avLst/>
          </a:prstGeom>
          <a:solidFill>
            <a:srgbClr val="00dc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4435560" y="6218280"/>
            <a:ext cx="1234800" cy="1006200"/>
          </a:xfrm>
          <a:prstGeom prst="rect">
            <a:avLst/>
          </a:prstGeom>
          <a:solidFill>
            <a:srgbClr val="00dc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-s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4435560" y="4937040"/>
            <a:ext cx="1234800" cy="1006200"/>
          </a:xfrm>
          <a:prstGeom prst="rect">
            <a:avLst/>
          </a:prstGeom>
          <a:solidFill>
            <a:srgbClr val="00dc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 ho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7423200" y="5668920"/>
            <a:ext cx="1677600" cy="767880"/>
          </a:xfrm>
          <a:prstGeom prst="rect">
            <a:avLst/>
          </a:prstGeom>
          <a:solidFill>
            <a:srgbClr val="00dc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v2rdf4l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"/>
          <p:cNvPicPr/>
          <p:nvPr/>
        </p:nvPicPr>
        <p:blipFill>
          <a:blip r:embed="rId1"/>
          <a:stretch/>
        </p:blipFill>
        <p:spPr>
          <a:xfrm>
            <a:off x="11099880" y="4603680"/>
            <a:ext cx="3347640" cy="280152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sp>
        <p:nvSpPr>
          <p:cNvPr id="262" name="Text Box 15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C1782-BBE3-4606-8A4F-8D7D8008E1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6"/>
          <p:cNvSpPr/>
          <p:nvPr/>
        </p:nvSpPr>
        <p:spPr>
          <a:xfrm>
            <a:off x="-274680" y="4389480"/>
            <a:ext cx="2377800" cy="3292200"/>
          </a:xfrm>
          <a:custGeom>
            <a:avLst/>
            <a:gdLst>
              <a:gd name="textAreaLeft" fmla="*/ 330120 w 2377800"/>
              <a:gd name="textAreaRight" fmla="*/ 1883520 w 2377800"/>
              <a:gd name="textAreaTop" fmla="*/ 505800 h 3292200"/>
              <a:gd name="textAreaBottom" fmla="*/ 2641320 h 329220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64" name="AutoShape 17"/>
          <p:cNvSpPr/>
          <p:nvPr/>
        </p:nvSpPr>
        <p:spPr>
          <a:xfrm>
            <a:off x="639720" y="4754520"/>
            <a:ext cx="456840" cy="549000"/>
          </a:xfrm>
          <a:prstGeom prst="can">
            <a:avLst>
              <a:gd name="adj" fmla="val 30035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65" name="AutoShape 18"/>
          <p:cNvSpPr/>
          <p:nvPr/>
        </p:nvSpPr>
        <p:spPr>
          <a:xfrm>
            <a:off x="641520" y="6492960"/>
            <a:ext cx="456840" cy="639360"/>
          </a:xfrm>
          <a:prstGeom prst="can">
            <a:avLst>
              <a:gd name="adj" fmla="val 34983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66" name="AutoShape 19"/>
          <p:cNvSpPr/>
          <p:nvPr/>
        </p:nvSpPr>
        <p:spPr>
          <a:xfrm>
            <a:off x="90360" y="530388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1371600" y="6218280"/>
            <a:ext cx="364680" cy="639360"/>
          </a:xfrm>
          <a:prstGeom prst="can">
            <a:avLst>
              <a:gd name="adj" fmla="val 43804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68" name="AutoShape 21"/>
          <p:cNvSpPr/>
          <p:nvPr/>
        </p:nvSpPr>
        <p:spPr>
          <a:xfrm>
            <a:off x="824040" y="54864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pic>
        <p:nvPicPr>
          <p:cNvPr id="269" name="Picture 22" descr=""/>
          <p:cNvPicPr/>
          <p:nvPr/>
        </p:nvPicPr>
        <p:blipFill>
          <a:blip r:embed="rId2"/>
          <a:stretch/>
        </p:blipFill>
        <p:spPr>
          <a:xfrm>
            <a:off x="420840" y="5184720"/>
            <a:ext cx="9000" cy="9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"/>
          <p:cNvPicPr/>
          <p:nvPr/>
        </p:nvPicPr>
        <p:blipFill>
          <a:blip r:embed="rId3"/>
          <a:stretch/>
        </p:blipFill>
        <p:spPr>
          <a:xfrm>
            <a:off x="420840" y="5184720"/>
            <a:ext cx="9000" cy="90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24"/>
          <p:cNvSpPr/>
          <p:nvPr/>
        </p:nvSpPr>
        <p:spPr>
          <a:xfrm>
            <a:off x="1463760" y="5029200"/>
            <a:ext cx="364680" cy="639360"/>
          </a:xfrm>
          <a:prstGeom prst="can">
            <a:avLst>
              <a:gd name="adj" fmla="val 43804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72" name="AutoShape 25"/>
          <p:cNvSpPr/>
          <p:nvPr/>
        </p:nvSpPr>
        <p:spPr>
          <a:xfrm>
            <a:off x="92160" y="6308640"/>
            <a:ext cx="456840" cy="639360"/>
          </a:xfrm>
          <a:prstGeom prst="can">
            <a:avLst>
              <a:gd name="adj" fmla="val 34983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273" name="AutoShape 26"/>
          <p:cNvCxnSpPr>
            <a:stCxn id="264" idx="1"/>
            <a:endCxn id="251" idx="1"/>
          </p:cNvCxnSpPr>
          <p:nvPr/>
        </p:nvCxnSpPr>
        <p:spPr>
          <a:xfrm flipV="1">
            <a:off x="1096920" y="4708440"/>
            <a:ext cx="1371960" cy="3211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4" name="AutoShape 27"/>
          <p:cNvCxnSpPr>
            <a:stCxn id="268" idx="1"/>
            <a:endCxn id="252" idx="1"/>
          </p:cNvCxnSpPr>
          <p:nvPr/>
        </p:nvCxnSpPr>
        <p:spPr>
          <a:xfrm flipV="1">
            <a:off x="1373040" y="5532120"/>
            <a:ext cx="935280" cy="3657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5" name="AutoShape 28"/>
          <p:cNvCxnSpPr>
            <a:stCxn id="265" idx="1"/>
            <a:endCxn id="253" idx="1"/>
          </p:cNvCxnSpPr>
          <p:nvPr/>
        </p:nvCxnSpPr>
        <p:spPr>
          <a:xfrm flipV="1">
            <a:off x="1098360" y="6721200"/>
            <a:ext cx="1188000" cy="9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6" name="AutoShape 29"/>
          <p:cNvCxnSpPr>
            <a:stCxn id="267" idx="1"/>
          </p:cNvCxnSpPr>
          <p:nvPr/>
        </p:nvCxnSpPr>
        <p:spPr>
          <a:xfrm>
            <a:off x="1736640" y="6538680"/>
            <a:ext cx="551160" cy="1893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7" name="AutoShape 30"/>
          <p:cNvCxnSpPr>
            <a:stCxn id="271" idx="1"/>
          </p:cNvCxnSpPr>
          <p:nvPr/>
        </p:nvCxnSpPr>
        <p:spPr>
          <a:xfrm flipV="1">
            <a:off x="1828800" y="4709880"/>
            <a:ext cx="640080" cy="640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78" name="Text Box 31"/>
          <p:cNvSpPr/>
          <p:nvPr/>
        </p:nvSpPr>
        <p:spPr>
          <a:xfrm>
            <a:off x="255600" y="3860640"/>
            <a:ext cx="1380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2" descr=""/>
          <p:cNvPicPr/>
          <p:nvPr/>
        </p:nvPicPr>
        <p:blipFill>
          <a:blip r:embed="rId4"/>
          <a:stretch/>
        </p:blipFill>
        <p:spPr>
          <a:xfrm>
            <a:off x="9437760" y="5680080"/>
            <a:ext cx="894960" cy="9712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3"/>
          <p:cNvSpPr/>
          <p:nvPr/>
        </p:nvSpPr>
        <p:spPr>
          <a:xfrm>
            <a:off x="4206960" y="8291520"/>
            <a:ext cx="566856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: http://logd.tw.rpi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.org: Semantic Markup for Discovery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5F4DF-474E-46B7-892C-FC8C77E782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69280" y="2604960"/>
            <a:ext cx="6886080" cy="5486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C RPI has published dataset listings based on IOGDS using emerging microdata standards, esp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.or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del endorsed by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ng, Google, Yahoo!, Yandex...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274680" y="2062080"/>
            <a:ext cx="6990840" cy="60764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.org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ension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C6A14-4D3A-4C3C-919F-FF38474AF8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040" y="1860480"/>
            <a:ext cx="6067080" cy="6643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C RPI's schema.or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ll enable government dataset catalogs to more easily be parsed and indexed by the major search engines...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.which will help users find relevant datasets!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C's dataset extension entered public discussion June 2012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6413400" y="1846440"/>
            <a:ext cx="5276520" cy="482868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289" name="Picture 5" descr=""/>
          <p:cNvPicPr/>
          <p:nvPr/>
        </p:nvPicPr>
        <p:blipFill>
          <a:blip r:embed="rId2"/>
          <a:stretch/>
        </p:blipFill>
        <p:spPr>
          <a:xfrm>
            <a:off x="9051840" y="4022640"/>
            <a:ext cx="5266800" cy="50954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.org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ension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88836-7642-43B9-8DB4-FFF917D66C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274680" y="2062080"/>
            <a:ext cx="6990840" cy="60764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2779560" y="3200400"/>
            <a:ext cx="4809600" cy="55814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sp>
        <p:nvSpPr>
          <p:cNvPr id="294" name="Rectangle 5"/>
          <p:cNvSpPr/>
          <p:nvPr/>
        </p:nvSpPr>
        <p:spPr>
          <a:xfrm>
            <a:off x="365040" y="2062080"/>
            <a:ext cx="1371240" cy="223560"/>
          </a:xfrm>
          <a:prstGeom prst="rect">
            <a:avLst/>
          </a:prstGeom>
          <a:solidFill>
            <a:srgbClr val="008000">
              <a:alpha val="25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3382920" y="5537160"/>
            <a:ext cx="1371240" cy="223560"/>
          </a:xfrm>
          <a:prstGeom prst="rect">
            <a:avLst/>
          </a:prstGeom>
          <a:solidFill>
            <a:srgbClr val="008000">
              <a:alpha val="25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296" name="AutoShape 7"/>
          <p:cNvCxnSpPr>
            <a:stCxn id="294" idx="2"/>
            <a:endCxn id="295" idx="1"/>
          </p:cNvCxnSpPr>
          <p:nvPr/>
        </p:nvCxnSpPr>
        <p:spPr>
          <a:xfrm>
            <a:off x="1050840" y="2286000"/>
            <a:ext cx="2332440" cy="33642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97" name="Text Box 8"/>
          <p:cNvSpPr/>
          <p:nvPr/>
        </p:nvSpPr>
        <p:spPr>
          <a:xfrm>
            <a:off x="8047080" y="2103480"/>
            <a:ext cx="6067080" cy="66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>
              <a:lnSpc>
                <a:spcPct val="100000"/>
              </a:lnSpc>
              <a:spcBef>
                <a:spcPts val="1063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chema.or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ension enable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evant datas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be more easily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over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y a range of stakeholders including researchers, data journalists, bloggers and develop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"/>
          <p:cNvPicPr/>
          <p:nvPr/>
        </p:nvPicPr>
        <p:blipFill>
          <a:blip r:embed="rId3"/>
          <a:stretch/>
        </p:blipFill>
        <p:spPr>
          <a:xfrm>
            <a:off x="2835360" y="3017880"/>
            <a:ext cx="21524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78986-BF5C-4377-B142-2A7DEFDA70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274680" y="2062080"/>
            <a:ext cx="6990840" cy="60764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2444760" y="3909960"/>
            <a:ext cx="6791040" cy="44096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302" name="Picture 4" descr=""/>
          <p:cNvPicPr/>
          <p:nvPr/>
        </p:nvPicPr>
        <p:blipFill>
          <a:blip r:embed="rId3"/>
          <a:stretch/>
        </p:blipFill>
        <p:spPr>
          <a:xfrm>
            <a:off x="10634760" y="7772400"/>
            <a:ext cx="3630240" cy="9615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.org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9875880" y="2286000"/>
            <a:ext cx="429696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.we've reviewed the current datasets schema proposal in draft, and we are comfortable with the current state of thing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.At this point, if the group would solidify on the dataset proposal, t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.gov would support and us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-Chris Musia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6218280" y="2641680"/>
            <a:ext cx="8334000" cy="497160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KAN Data Catalog Scheme &amp; Protocol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B6FC1-E119-43B7-B5A8-358332E7FE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2641680"/>
            <a:ext cx="6067080" cy="6259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I-based catalog federation is also possible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kan announced DCAT-based query/federation API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OAI-PMH-like harvesting and more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35720" rIns="135720" tIns="68040" bIns="680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ataset extension to schema.org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Content Placeholder 3" descr="datasetschema.tiff"/>
          <p:cNvPicPr/>
          <p:nvPr/>
        </p:nvPicPr>
        <p:blipFill>
          <a:blip r:embed="rId1"/>
          <a:srcRect l="-45960" t="0" r="-45960" b="0"/>
          <a:stretch/>
        </p:blipFill>
        <p:spPr>
          <a:xfrm>
            <a:off x="-4781520" y="1719360"/>
            <a:ext cx="19873440" cy="11304360"/>
          </a:xfrm>
          <a:prstGeom prst="rect">
            <a:avLst/>
          </a:prstGeom>
          <a:ln w="0">
            <a:noFill/>
          </a:ln>
        </p:spPr>
      </p:pic>
      <p:pic>
        <p:nvPicPr>
          <p:cNvPr id="311" name="Content Placeholder 3" descr="datasetschema.tiff"/>
          <p:cNvPicPr/>
          <p:nvPr/>
        </p:nvPicPr>
        <p:blipFill>
          <a:blip r:embed="rId2"/>
          <a:srcRect l="-45960" t="0" r="-45960" b="0"/>
          <a:stretch/>
        </p:blipFill>
        <p:spPr>
          <a:xfrm>
            <a:off x="-461880" y="-2163600"/>
            <a:ext cx="19873440" cy="113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/ links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22480" y="197964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w3.org/wiki/WebSchemas/Dataset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w3.org/wiki/WebSchemas/SchemaDotOrgProposal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introduction (longer/ with more context):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slideshare.net/joshsh/semantic-markup-using-schemaorg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current schema.org results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schema-creator.org/event.php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schema-creator.org/product.php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50760" y="2170080"/>
            <a:ext cx="10693080" cy="7407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Government Data Around the World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9B39B-E1B1-436D-805D-A136BFBB54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2160" y="2011320"/>
            <a:ext cx="6400440" cy="45716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ing with efforts 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US and UK, governments around 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orld have recognized the need to publish their critical data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9407520" y="2004840"/>
            <a:ext cx="4981320" cy="476208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sp>
        <p:nvSpPr>
          <p:cNvPr id="143" name="Text Box 6"/>
          <p:cNvSpPr/>
          <p:nvPr/>
        </p:nvSpPr>
        <p:spPr>
          <a:xfrm>
            <a:off x="8686800" y="2004840"/>
            <a:ext cx="4389120" cy="33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 of total collection (from 1M+ datas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o…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619280"/>
            <a:ext cx="5514480" cy="5905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Google, Bing, Yahoo, … to crawl these page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might look like this: http://www.google.com/publicdata/directory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google_data20130708.tiff"/>
          <p:cNvPicPr/>
          <p:nvPr/>
        </p:nvPicPr>
        <p:blipFill>
          <a:blip r:embed="rId1"/>
          <a:stretch/>
        </p:blipFill>
        <p:spPr>
          <a:xfrm>
            <a:off x="5227560" y="1851120"/>
            <a:ext cx="9791280" cy="7184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Jim Hendler: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gle is now building custom search engines that will pull down 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chema.org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 Brickley is working on one from the Dataset schema, not yet public 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's also an open govt data search – not much in it, but looks nice – it's at 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www.google.com/publicdata/directory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rieve all the logd datasets: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96920" y="169236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IX dgtwc: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data-gov.tw.rpi.edu/2009/data-gov-twc.rdf#&gt;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IX conv: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purl.org/twc/vocab/conversion/&gt;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IX void: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rdfs.org/ns/void#&gt;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IX dcterms: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purl.org/dc/terms/&gt;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DISTINCT ?dataset ?catalog ?catalog_id ?title ?desc ?country ?homepage ?agency_id ?contributor_id WHERE {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a conv:CatalogedDataset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void:inDataset ?catalog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catalog dcterms:identifier ?catalog_id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purl.org/dc/terms/title&gt; ?title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dcterms:description ?desc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{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dgtwc:catalog_country ?country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{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xmlns.com/foaf/0.1/homepage&gt; ?homepage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{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dgtwc:agency ?agency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agency dcterms:identifier ?agency_id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{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purl.org/dc/terms/contributor&gt; ?contributor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contributor dcterms:identifier ?contributor_id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?dataset dgtwc:catalog_country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dbpedia.org/resource/United_States&gt;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rtesy: Josh Shinavier (RPI/TWC)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rge number of datasets: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logd.tw.rpi.edu/schemaorg_dataset_extension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google.com/webmasters/tools/richsnippets?url=http://logd.tw.rpi.edu/schemaorg_dataset_extension&amp;view=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logd.tw.rpi.edu/page/international_dataset_catalog_search</a:t>
            </a:r>
            <a:endParaRPr b="0" lang="en-GB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3" descr="iogds20130709.tiff"/>
          <p:cNvPicPr/>
          <p:nvPr/>
        </p:nvPicPr>
        <p:blipFill>
          <a:blip r:embed="rId1"/>
          <a:stretch/>
        </p:blipFill>
        <p:spPr>
          <a:xfrm>
            <a:off x="3427560" y="1770120"/>
            <a:ext cx="11232720" cy="7373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test from Josh: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96920" y="212400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s-as-Linked-Data demo.  The RDFa in the pages is not only correct w.r.t. schema.org but is also presented in such a way that an RDFa-aware Linked Data crawler can hop from datasets to catalogs, back again, into DBpedia, etc. while gathering the RDFa as linked RDF.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ce we now have Datasets-ish RDFa markup in the main IOGDS dataset pages (i.e. the pages which the URIs of the datasets redirect to), we're pretty close to a completely integrated demo.  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emains: (1) the current markup has some problems.  We need to fix those; (2) we need markup for catalogs as well as datasets…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ed (1) and (2):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fix (1), we need to make changes to the LODSPeaKr templates that automatically generate those pages, to make them compliant with the model Josh developed. 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fix (2), we'll work with Alvaro (Graves) to create LODSPeaKr-based automation to generate catalog pages in an efficient way. 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) presents more of a challenge than (1) at this point, since the IOGDS implementation of dataset details pages is mostly correct at this point.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ll need Dan B. to assist with getting them found…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e need: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ingness to adopt the dataset schema extension – we need lots of datasets to start showing up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(TWC) will be pushing out some tools, more demos and how-tos, very soon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nna play? http://wiki.esipfed.org/index.php/DatasetSchema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4824360" y="4140360"/>
            <a:ext cx="5600520" cy="4638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erse Approaches to Open Gov't Data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816F7-BDF8-4748-A14D-0DD2307619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680" y="1920960"/>
            <a:ext cx="6067080" cy="5486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ment data initiatives have taken many form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Data portals are widely varied in how they help users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over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evant dataset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6492960" y="1841400"/>
            <a:ext cx="1463400" cy="135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10420200" y="1892160"/>
            <a:ext cx="3752640" cy="1399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11337840" y="7778880"/>
            <a:ext cx="2828520" cy="999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tretch/>
        </p:blipFill>
        <p:spPr>
          <a:xfrm>
            <a:off x="9963000" y="3749760"/>
            <a:ext cx="1923840" cy="110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6"/>
          <a:stretch/>
        </p:blipFill>
        <p:spPr>
          <a:xfrm>
            <a:off x="12174480" y="5313240"/>
            <a:ext cx="2180880" cy="90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7"/>
          <a:stretch/>
        </p:blipFill>
        <p:spPr>
          <a:xfrm>
            <a:off x="12474720" y="3565440"/>
            <a:ext cx="1790280" cy="856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8"/>
          <a:stretch/>
        </p:blipFill>
        <p:spPr>
          <a:xfrm>
            <a:off x="5916600" y="3657600"/>
            <a:ext cx="2037960" cy="637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9"/>
          <a:stretch/>
        </p:blipFill>
        <p:spPr>
          <a:xfrm>
            <a:off x="8047080" y="2617920"/>
            <a:ext cx="2314080" cy="85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10"/>
          <a:stretch/>
        </p:blipFill>
        <p:spPr>
          <a:xfrm>
            <a:off x="10423440" y="6683400"/>
            <a:ext cx="2761920" cy="7236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4"/>
          <p:cNvSpPr/>
          <p:nvPr/>
        </p:nvSpPr>
        <p:spPr>
          <a:xfrm>
            <a:off x="5851440" y="4603680"/>
            <a:ext cx="2377800" cy="45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 of total catalo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rom 192 catalo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ted Discovery of Government Data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97B88-41F5-4624-896C-1E775CDC4C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82520" y="1787400"/>
            <a:ext cx="5219280" cy="42476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3389400" y="2925720"/>
            <a:ext cx="5114520" cy="42098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162" name="Picture 5" descr=""/>
          <p:cNvPicPr/>
          <p:nvPr/>
        </p:nvPicPr>
        <p:blipFill>
          <a:blip r:embed="rId3"/>
          <a:stretch/>
        </p:blipFill>
        <p:spPr>
          <a:xfrm>
            <a:off x="457200" y="5165640"/>
            <a:ext cx="7589520" cy="452736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847000" y="2044800"/>
            <a:ext cx="5576400" cy="54860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keholders have s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eed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ted discover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ross catalog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pecial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rom withi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jor search engin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ng, Google, Yahoo!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ndex</a:t>
            </a:r>
            <a:endParaRPr b="0" lang="en-GB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35720" rIns="135720" tIns="68040" bIns="680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vernment Data in the linked open data cloud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Content Placeholder 3" descr="lod-datasets_2010-09-22_colored.png"/>
          <p:cNvPicPr/>
          <p:nvPr/>
        </p:nvPicPr>
        <p:blipFill>
          <a:blip r:embed="rId1"/>
          <a:srcRect l="-9177" t="0" r="-9177" b="0"/>
          <a:stretch/>
        </p:blipFill>
        <p:spPr>
          <a:xfrm>
            <a:off x="0" y="2133720"/>
            <a:ext cx="14188680" cy="65019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4393800" y="8432640"/>
            <a:ext cx="3035520" cy="50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5720" rIns="135720" tIns="68040" bIns="6804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ttp://linkeddat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1219680" y="2438280"/>
            <a:ext cx="10606680" cy="5587560"/>
            <a:chOff x="1219680" y="2438280"/>
            <a:chExt cx="10606680" cy="5587560"/>
          </a:xfrm>
        </p:grpSpPr>
        <p:sp>
          <p:nvSpPr>
            <p:cNvPr id="168" name="Isosceles Triangle 4"/>
            <p:cNvSpPr/>
            <p:nvPr/>
          </p:nvSpPr>
          <p:spPr>
            <a:xfrm rot="5400000">
              <a:off x="559080" y="3098520"/>
              <a:ext cx="5587560" cy="4267080"/>
            </a:xfrm>
            <a:prstGeom prst="triangle">
              <a:avLst>
                <a:gd name="adj" fmla="val 50773"/>
              </a:avLst>
            </a:prstGeom>
            <a:noFill/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69" name="TextBox 5"/>
            <p:cNvSpPr/>
            <p:nvPr/>
          </p:nvSpPr>
          <p:spPr>
            <a:xfrm>
              <a:off x="5242680" y="5283360"/>
              <a:ext cx="6583680" cy="118692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vernment Data is currently over ½ the cloud in size (~17B triples), 10s of thousands of links to other data (within and withou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ed Data is Not Enough...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3D56C-A62D-4ED0-99AB-3E7C606071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74680" y="2011320"/>
            <a:ext cx="6067080" cy="809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shing open government data as Linked Data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enough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OGD to be useful, datasets must be published using metadata, markup standards and presentation that 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overy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"/>
          <p:cNvSpPr/>
          <p:nvPr/>
        </p:nvSpPr>
        <p:spPr>
          <a:xfrm>
            <a:off x="6583320" y="2011320"/>
            <a:ext cx="7772040" cy="7132320"/>
          </a:xfrm>
          <a:custGeom>
            <a:avLst/>
            <a:gdLst>
              <a:gd name="textAreaLeft" fmla="*/ 1079280 w 7772040"/>
              <a:gd name="textAreaRight" fmla="*/ 6156720 w 7772040"/>
              <a:gd name="textAreaTop" fmla="*/ 1096200 h 7132320"/>
              <a:gd name="textAreaBottom" fmla="*/ 5722560 h 71323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12526920" y="347508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8229600" y="320040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7864560" y="713268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12526920" y="347508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12069720" y="676584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12801600" y="521172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7497720" y="521172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10788480" y="27432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82" name="AutoShape 13"/>
          <p:cNvSpPr/>
          <p:nvPr/>
        </p:nvSpPr>
        <p:spPr>
          <a:xfrm>
            <a:off x="10058400" y="768204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8412120" y="59436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184" name="AutoShape 15"/>
          <p:cNvCxnSpPr>
            <a:stCxn id="180" idx="1"/>
            <a:endCxn id="185" idx="1"/>
          </p:cNvCxnSpPr>
          <p:nvPr/>
        </p:nvCxnSpPr>
        <p:spPr>
          <a:xfrm flipV="1">
            <a:off x="8046720" y="5497200"/>
            <a:ext cx="1186200" cy="126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6" name="AutoShape 16"/>
          <p:cNvCxnSpPr>
            <a:stCxn id="175" idx="1"/>
            <a:endCxn id="185" idx="0"/>
          </p:cNvCxnSpPr>
          <p:nvPr/>
        </p:nvCxnSpPr>
        <p:spPr>
          <a:xfrm>
            <a:off x="9051840" y="3749400"/>
            <a:ext cx="1371960" cy="7527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7" name="AutoShape 17"/>
          <p:cNvCxnSpPr>
            <a:stCxn id="181" idx="3"/>
            <a:endCxn id="185" idx="0"/>
          </p:cNvCxnSpPr>
          <p:nvPr/>
        </p:nvCxnSpPr>
        <p:spPr>
          <a:xfrm flipH="1">
            <a:off x="10421640" y="3565440"/>
            <a:ext cx="640080" cy="9352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8" name="AutoShape 18"/>
          <p:cNvCxnSpPr>
            <a:stCxn id="177" idx="2"/>
            <a:endCxn id="185" idx="3"/>
          </p:cNvCxnSpPr>
          <p:nvPr/>
        </p:nvCxnSpPr>
        <p:spPr>
          <a:xfrm flipH="1">
            <a:off x="11612520" y="4024080"/>
            <a:ext cx="914760" cy="14734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89" name="AutoShape 19"/>
          <p:cNvSpPr/>
          <p:nvPr/>
        </p:nvSpPr>
        <p:spPr>
          <a:xfrm>
            <a:off x="10148760" y="48006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190" name="AutoShape 20"/>
          <p:cNvCxnSpPr>
            <a:stCxn id="183" idx="1"/>
            <a:endCxn id="185" idx="1"/>
          </p:cNvCxnSpPr>
          <p:nvPr/>
        </p:nvCxnSpPr>
        <p:spPr>
          <a:xfrm flipV="1">
            <a:off x="8961120" y="5497200"/>
            <a:ext cx="271800" cy="8578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1" name="AutoShape 21"/>
          <p:cNvCxnSpPr>
            <a:stCxn id="176" idx="1"/>
            <a:endCxn id="185" idx="2"/>
          </p:cNvCxnSpPr>
          <p:nvPr/>
        </p:nvCxnSpPr>
        <p:spPr>
          <a:xfrm flipV="1">
            <a:off x="8686800" y="6492600"/>
            <a:ext cx="1737000" cy="1188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2" name="AutoShape 22"/>
          <p:cNvCxnSpPr>
            <a:stCxn id="182" idx="1"/>
            <a:endCxn id="185" idx="2"/>
          </p:cNvCxnSpPr>
          <p:nvPr/>
        </p:nvCxnSpPr>
        <p:spPr>
          <a:xfrm flipV="1">
            <a:off x="10332720" y="6492600"/>
            <a:ext cx="91080" cy="11894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3" name="AutoShape 23"/>
          <p:cNvCxnSpPr>
            <a:stCxn id="194" idx="2"/>
            <a:endCxn id="185" idx="3"/>
          </p:cNvCxnSpPr>
          <p:nvPr/>
        </p:nvCxnSpPr>
        <p:spPr>
          <a:xfrm flipH="1" flipV="1">
            <a:off x="11612520" y="5497200"/>
            <a:ext cx="457560" cy="6753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5" name="AutoShape 24"/>
          <p:cNvCxnSpPr>
            <a:stCxn id="178" idx="2"/>
            <a:endCxn id="185" idx="2"/>
          </p:cNvCxnSpPr>
          <p:nvPr/>
        </p:nvCxnSpPr>
        <p:spPr>
          <a:xfrm flipH="1" flipV="1">
            <a:off x="10421640" y="6492600"/>
            <a:ext cx="1646640" cy="6847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6" name="AutoShape 25"/>
          <p:cNvCxnSpPr>
            <a:stCxn id="179" idx="2"/>
            <a:endCxn id="185" idx="3"/>
          </p:cNvCxnSpPr>
          <p:nvPr/>
        </p:nvCxnSpPr>
        <p:spPr>
          <a:xfrm flipH="1" flipV="1">
            <a:off x="11612520" y="5497200"/>
            <a:ext cx="1189440" cy="126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pic>
        <p:nvPicPr>
          <p:cNvPr id="197" name="Picture 26" descr=""/>
          <p:cNvPicPr/>
          <p:nvPr/>
        </p:nvPicPr>
        <p:blipFill>
          <a:blip r:embed="rId1"/>
          <a:stretch/>
        </p:blipFill>
        <p:spPr>
          <a:xfrm>
            <a:off x="7278840" y="5457960"/>
            <a:ext cx="9000" cy="9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7" descr=""/>
          <p:cNvPicPr/>
          <p:nvPr/>
        </p:nvPicPr>
        <p:blipFill>
          <a:blip r:embed="rId2"/>
          <a:stretch/>
        </p:blipFill>
        <p:spPr>
          <a:xfrm>
            <a:off x="7278840" y="5457960"/>
            <a:ext cx="9000" cy="9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8"/>
          <p:cNvSpPr/>
          <p:nvPr/>
        </p:nvSpPr>
        <p:spPr>
          <a:xfrm>
            <a:off x="12069720" y="576108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pic>
        <p:nvPicPr>
          <p:cNvPr id="199" name="Picture 29" descr=""/>
          <p:cNvPicPr/>
          <p:nvPr/>
        </p:nvPicPr>
        <p:blipFill>
          <a:blip r:embed="rId3"/>
          <a:stretch/>
        </p:blipFill>
        <p:spPr>
          <a:xfrm>
            <a:off x="9232920" y="4500720"/>
            <a:ext cx="2379240" cy="199188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ed Data is Not Enough...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276E5-34B9-4D80-97D9-01E2D28D08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4680" y="2011320"/>
            <a:ext cx="6067080" cy="809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shing open government data as Linked Data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enough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OGD to be useful, datasets must be published using metadata, markup standards and presentation that 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overy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"/>
          <p:cNvSpPr/>
          <p:nvPr/>
        </p:nvSpPr>
        <p:spPr>
          <a:xfrm>
            <a:off x="6583320" y="2011320"/>
            <a:ext cx="7772040" cy="7132320"/>
          </a:xfrm>
          <a:custGeom>
            <a:avLst/>
            <a:gdLst>
              <a:gd name="textAreaLeft" fmla="*/ 1079280 w 7772040"/>
              <a:gd name="textAreaRight" fmla="*/ 6156720 w 7772040"/>
              <a:gd name="textAreaTop" fmla="*/ 1096200 h 7132320"/>
              <a:gd name="textAreaBottom" fmla="*/ 5722560 h 71323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12526920" y="347508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8229600" y="320040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7864560" y="713268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12526920" y="347508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12069720" y="676584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12801600" y="521172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10" name="AutoShape 11"/>
          <p:cNvSpPr/>
          <p:nvPr/>
        </p:nvSpPr>
        <p:spPr>
          <a:xfrm>
            <a:off x="7497720" y="521172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10788480" y="27432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10058400" y="768204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8412120" y="59436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214" name="AutoShape 15"/>
          <p:cNvCxnSpPr>
            <a:stCxn id="210" idx="1"/>
            <a:endCxn id="215" idx="1"/>
          </p:cNvCxnSpPr>
          <p:nvPr/>
        </p:nvCxnSpPr>
        <p:spPr>
          <a:xfrm flipV="1">
            <a:off x="8046720" y="5497200"/>
            <a:ext cx="1186200" cy="126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6" name="AutoShape 16"/>
          <p:cNvCxnSpPr>
            <a:stCxn id="205" idx="1"/>
            <a:endCxn id="215" idx="0"/>
          </p:cNvCxnSpPr>
          <p:nvPr/>
        </p:nvCxnSpPr>
        <p:spPr>
          <a:xfrm>
            <a:off x="9051840" y="3749400"/>
            <a:ext cx="1371960" cy="7527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7" name="AutoShape 17"/>
          <p:cNvCxnSpPr>
            <a:stCxn id="211" idx="3"/>
            <a:endCxn id="215" idx="0"/>
          </p:cNvCxnSpPr>
          <p:nvPr/>
        </p:nvCxnSpPr>
        <p:spPr>
          <a:xfrm flipH="1">
            <a:off x="10421640" y="3565440"/>
            <a:ext cx="640080" cy="9352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8" name="AutoShape 18"/>
          <p:cNvCxnSpPr>
            <a:stCxn id="207" idx="2"/>
            <a:endCxn id="215" idx="3"/>
          </p:cNvCxnSpPr>
          <p:nvPr/>
        </p:nvCxnSpPr>
        <p:spPr>
          <a:xfrm flipH="1">
            <a:off x="11612520" y="4024080"/>
            <a:ext cx="914760" cy="14734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19" name="AutoShape 19"/>
          <p:cNvSpPr/>
          <p:nvPr/>
        </p:nvSpPr>
        <p:spPr>
          <a:xfrm>
            <a:off x="10148760" y="48006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220" name="AutoShape 20"/>
          <p:cNvCxnSpPr>
            <a:stCxn id="213" idx="1"/>
            <a:endCxn id="215" idx="1"/>
          </p:cNvCxnSpPr>
          <p:nvPr/>
        </p:nvCxnSpPr>
        <p:spPr>
          <a:xfrm flipV="1">
            <a:off x="8961120" y="5497200"/>
            <a:ext cx="271800" cy="8578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1" name="AutoShape 21"/>
          <p:cNvCxnSpPr>
            <a:stCxn id="206" idx="1"/>
            <a:endCxn id="215" idx="2"/>
          </p:cNvCxnSpPr>
          <p:nvPr/>
        </p:nvCxnSpPr>
        <p:spPr>
          <a:xfrm flipV="1">
            <a:off x="8686800" y="6492600"/>
            <a:ext cx="1737000" cy="1188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2" name="AutoShape 22"/>
          <p:cNvCxnSpPr>
            <a:stCxn id="212" idx="1"/>
            <a:endCxn id="215" idx="2"/>
          </p:cNvCxnSpPr>
          <p:nvPr/>
        </p:nvCxnSpPr>
        <p:spPr>
          <a:xfrm flipV="1">
            <a:off x="10332720" y="6492600"/>
            <a:ext cx="91080" cy="11894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3" name="AutoShape 23"/>
          <p:cNvCxnSpPr>
            <a:stCxn id="224" idx="2"/>
            <a:endCxn id="215" idx="3"/>
          </p:cNvCxnSpPr>
          <p:nvPr/>
        </p:nvCxnSpPr>
        <p:spPr>
          <a:xfrm flipH="1" flipV="1">
            <a:off x="11612520" y="5497200"/>
            <a:ext cx="457560" cy="6753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5" name="AutoShape 24"/>
          <p:cNvCxnSpPr>
            <a:stCxn id="208" idx="2"/>
            <a:endCxn id="215" idx="2"/>
          </p:cNvCxnSpPr>
          <p:nvPr/>
        </p:nvCxnSpPr>
        <p:spPr>
          <a:xfrm flipH="1" flipV="1">
            <a:off x="10421640" y="6492600"/>
            <a:ext cx="1646640" cy="6847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6" name="AutoShape 25"/>
          <p:cNvCxnSpPr>
            <a:stCxn id="209" idx="2"/>
            <a:endCxn id="215" idx="3"/>
          </p:cNvCxnSpPr>
          <p:nvPr/>
        </p:nvCxnSpPr>
        <p:spPr>
          <a:xfrm flipH="1" flipV="1">
            <a:off x="11612520" y="5497200"/>
            <a:ext cx="1189440" cy="126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pic>
        <p:nvPicPr>
          <p:cNvPr id="227" name="Picture 26" descr=""/>
          <p:cNvPicPr/>
          <p:nvPr/>
        </p:nvPicPr>
        <p:blipFill>
          <a:blip r:embed="rId1"/>
          <a:stretch/>
        </p:blipFill>
        <p:spPr>
          <a:xfrm>
            <a:off x="7278840" y="5457960"/>
            <a:ext cx="9000" cy="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7" descr=""/>
          <p:cNvPicPr/>
          <p:nvPr/>
        </p:nvPicPr>
        <p:blipFill>
          <a:blip r:embed="rId2"/>
          <a:stretch/>
        </p:blipFill>
        <p:spPr>
          <a:xfrm>
            <a:off x="7278840" y="5457960"/>
            <a:ext cx="9000" cy="90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28"/>
          <p:cNvSpPr/>
          <p:nvPr/>
        </p:nvSpPr>
        <p:spPr>
          <a:xfrm>
            <a:off x="12069720" y="576108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pic>
        <p:nvPicPr>
          <p:cNvPr id="229" name="Picture 29" descr=""/>
          <p:cNvPicPr/>
          <p:nvPr/>
        </p:nvPicPr>
        <p:blipFill>
          <a:blip r:embed="rId3"/>
          <a:stretch/>
        </p:blipFill>
        <p:spPr>
          <a:xfrm>
            <a:off x="9232920" y="4500720"/>
            <a:ext cx="2379240" cy="1991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0" descr=""/>
          <p:cNvPicPr/>
          <p:nvPr/>
        </p:nvPicPr>
        <p:blipFill>
          <a:blip r:embed="rId4"/>
          <a:stretch/>
        </p:blipFill>
        <p:spPr>
          <a:xfrm>
            <a:off x="8869320" y="4343400"/>
            <a:ext cx="1571400" cy="6854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231" name="Picture 31" descr=""/>
          <p:cNvPicPr/>
          <p:nvPr/>
        </p:nvPicPr>
        <p:blipFill>
          <a:blip r:embed="rId5"/>
          <a:stretch/>
        </p:blipFill>
        <p:spPr>
          <a:xfrm>
            <a:off x="9193320" y="5211720"/>
            <a:ext cx="2418840" cy="188568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232" name="Picture 32" descr=""/>
          <p:cNvPicPr/>
          <p:nvPr/>
        </p:nvPicPr>
        <p:blipFill>
          <a:blip r:embed="rId6"/>
          <a:stretch/>
        </p:blipFill>
        <p:spPr>
          <a:xfrm>
            <a:off x="10611000" y="4410000"/>
            <a:ext cx="1275840" cy="6188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 Metadata for Discovery and Use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8355A-452D-4141-93BA-1B7EA05F6E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69280" y="2641680"/>
            <a:ext cx="6978240" cy="5990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nt work at 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C RPI demonstrates the value of applying emerging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s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or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formly describing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overnment datasets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catalog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71440" y="2227320"/>
            <a:ext cx="6953040" cy="581940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3108240" y="4664160"/>
            <a:ext cx="5100120" cy="462096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65440" y="-193680"/>
            <a:ext cx="110646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Open Government Dataset Search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23F26-8388-4853-A2CB-49DD8C7CF9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3360" y="2103480"/>
            <a:ext cx="6067080" cy="7300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C'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G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pplication is an aggregated catalog of more than 1M datasets from over 192 dataset catalogs from governments at every level around the world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943600" y="2011320"/>
            <a:ext cx="6953040" cy="581940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9423360" y="4572000"/>
            <a:ext cx="5024160" cy="446220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sp>
        <p:nvSpPr>
          <p:cNvPr id="243" name="Text Box 6"/>
          <p:cNvSpPr/>
          <p:nvPr/>
        </p:nvSpPr>
        <p:spPr>
          <a:xfrm>
            <a:off x="365040" y="8321760"/>
            <a:ext cx="566856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: http://logd.tw.rpi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8</TotalTime>
  <Application>LibreOffice/7.4.7.2$Linux_X86_64 LibreOffice_project/40$Build-2</Application>
  <AppVersion>15.0000</AppVersion>
  <Words>1594</Words>
  <Paragraphs>1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9T15:58:26Z</dcterms:created>
  <dc:creator>Peter Darnell</dc:creator>
  <dc:description/>
  <dc:language>en-US</dc:language>
  <cp:lastModifiedBy>Erin Robinson</cp:lastModifiedBy>
  <cp:lastPrinted>1601-01-01T00:00:00Z</cp:lastPrinted>
  <dcterms:modified xsi:type="dcterms:W3CDTF">2013-07-09T15:59:04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Custom</vt:lpwstr>
  </property>
  <property fmtid="{D5CDD505-2E9C-101B-9397-08002B2CF9AE}" pid="4" name="Slides">
    <vt:r8>27</vt:r8>
  </property>
</Properties>
</file>